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530-5BF5-4C46-B14A-2D28DEB1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B7A-7E06-45B6-9AD0-68CD03F1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6D9-69BB-4FD2-BF12-C653CACA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76E-ABCD-4403-A2B9-64655DB3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624D-EB64-43CA-B3BE-AED1120E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3EE-0CC6-473D-9FBE-E888C632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2F5-E247-4D04-B1CF-972EBB85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22AD-3A83-4AC9-B813-CA88725A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51CE-923A-402B-8088-6F9AD3F8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950-8EFE-40E2-8823-A868CF43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0E4-E000-4151-9D26-629825DE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B69-E238-4562-90C6-3306A5CF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C19B-2454-4127-8A8D-0D9DF350C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05120" y="1904760"/>
            <a:ext cx="3028680" cy="2732040"/>
            <a:chOff x="1905120" y="1904760"/>
            <a:chExt cx="3028680" cy="2732040"/>
          </a:xfrm>
        </p:grpSpPr>
        <p:sp>
          <p:nvSpPr>
            <p:cNvPr id="42" name=""/>
            <p:cNvSpPr/>
            <p:nvPr/>
          </p:nvSpPr>
          <p:spPr>
            <a:xfrm>
              <a:off x="3962520" y="3733920"/>
              <a:ext cx="571320" cy="50796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62520" y="3327480"/>
              <a:ext cx="571320" cy="406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62000" y="1905120"/>
              <a:ext cx="2971800" cy="23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90920" y="2108160"/>
              <a:ext cx="16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996600"/>
                  </a:solidFill>
                  <a:latin typeface="Times New Roman"/>
                </a:rPr>
                <a:t>CARTE DE GROUPE (Receveu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6480" y="2006640"/>
              <a:ext cx="5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Mentions biologiques spé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62000" y="2514600"/>
              <a:ext cx="217188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133880" y="1904760"/>
              <a:ext cx="0" cy="60948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2006640"/>
              <a:ext cx="399960" cy="507960"/>
            </a:xfrm>
            <a:prstGeom prst="rect">
              <a:avLst/>
            </a:prstGeom>
            <a:noFill/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19240" y="2616120"/>
              <a:ext cx="18288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996600"/>
                  </a:solidFill>
                  <a:latin typeface="Times New Roman"/>
                </a:rPr>
                <a:t>PREMIERE DETERMINATION Nom et Adresse Laboratoi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Laboratoire d’Analyses de Biologie Médicale VERDIER J.F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38 Rue Saint Laurent – 75005 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62000" y="3327480"/>
              <a:ext cx="2971800" cy="914400"/>
            </a:xfrm>
            <a:prstGeom prst="rect">
              <a:avLst/>
            </a:prstGeom>
            <a:noFill/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62000" y="3835440"/>
              <a:ext cx="80028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62280" y="3327480"/>
              <a:ext cx="0" cy="91440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3327480"/>
              <a:ext cx="0" cy="50796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3381480"/>
              <a:ext cx="609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Chef de Laboratoi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05080" y="33274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N° date examen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E1363               06-02-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3835440"/>
              <a:ext cx="9144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rélèvement effectué le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06.02.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ar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BARTH 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62280" y="3632040"/>
              <a:ext cx="120024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196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0520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10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91080" y="403848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91080" y="393696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91080" y="383544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591080" y="37339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33480" y="3632040"/>
              <a:ext cx="39996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591080" y="35305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3840" y="3327480"/>
              <a:ext cx="28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3840" y="3489480"/>
              <a:ext cx="34308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8320" y="3327480"/>
              <a:ext cx="2286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Nég -       -      +      -      +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66880" y="3316320"/>
              <a:ext cx="685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AB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9080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19480" y="3336840"/>
              <a:ext cx="5904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R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336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0500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4808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62280" y="3621240"/>
              <a:ext cx="62856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NOM Prénom        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LAHAYE Mariam            </a:t>
              </a: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ate Lieu de Naissance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 25.03.75 Maser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2520" y="3225960"/>
              <a:ext cx="5713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fr-FR" sz="900" spc="-1" strike="noStrike">
                  <a:solidFill>
                    <a:srgbClr val="ffffff"/>
                  </a:solidFill>
                  <a:latin typeface="Times New Roman"/>
                </a:rPr>
                <a:t> Rh</a:t>
              </a: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  NEGATIF</a:t>
              </a:r>
              <a:r>
                <a:rPr b="1" lang="fr-FR" sz="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3733920"/>
              <a:ext cx="62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ELL   NEGATIF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3962520"/>
              <a:ext cx="571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R.A.I. : Négat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96252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392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stin powers</cp:lastModifiedBy>
  <dcterms:modified xsi:type="dcterms:W3CDTF">2002-05-27T21:57:45Z</dcterms:modified>
  <cp:revision>1</cp:revision>
  <dc:subject/>
  <dc:title>PowerPoint Presentation</dc:title>
</cp:coreProperties>
</file>